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</p:sldIdLst>
  <p:sldSz cx="12179300" cy="91328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dt" idx="8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fld id="{31497EE4-3982-40AE-8889-B7F3722E2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ftr" idx="8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6"/>
          <p:cNvSpPr>
            <a:spLocks noGrp="1"/>
          </p:cNvSpPr>
          <p:nvPr>
            <p:ph type="sldNum" idx="8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fld id="{10EA9160-C0C3-41B8-B730-FBB300FB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fld id="{A4B02760-9DE0-4E63-BCB9-5CB1FF4B467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709DC6-7ADB-409C-9437-2C9490F59FB5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F6DBD3-5AD7-453D-A7D3-93ACF1478C5E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17BF84-CB65-4AE3-B8CF-9B7180DB195B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CE2773-E6D6-495C-A0EA-06CB0420245D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38DA48-FF34-4CA4-8639-AAB10B9583AF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7E7BB-2E51-4AC1-8640-A1F85CA5D2FF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fld id="{FEB85DC8-AEB9-4911-A435-728FE5999DAC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54B4E6-151B-4C02-BC60-99C87C05BDE7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8CCC51-BDED-4002-BC23-9EB79FC14CC8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0CD6B-4F0F-42AD-8522-025B25FFD798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25D39B-7EDC-4B67-9B27-09C287DFC159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F9B1C5-5E3D-4BF2-B8CC-C0A6E88A968A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885525-76C0-468C-8C24-D0F5272BC239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02CF5B-1F53-4CD3-A0CA-41D6959E7AE6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97129C-3D63-491E-9FF3-AE90152D9E99}" type="slidenum">
              <a:rPr b="0" lang="es-C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CL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66C7F-652D-4CC6-800F-0B72D5E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FCB85-7CD1-4727-9020-BADBBADD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563D8E-B472-4EC5-BA4B-57B961B1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F233D-5115-4369-BBA9-EF4837D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108D8E-B4DC-4EB0-974A-FB9F67F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12D82-CB0C-4EE2-8766-FD69E96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F3D6A-6E40-40C4-B8EF-F72300C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5C6BA-8788-41FA-A06C-43DF169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5CC0D-9067-421A-9EAF-57239DE2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694D2-A66E-4C01-B296-25F8FC06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2C1F-8678-4E99-8549-53A2086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3DBF8-BBEA-4C86-9D9D-9253C3F2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C3CEB-20B8-4FB3-929D-7EAE0A7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E6C21-4733-45F8-B6C7-DFD2F6C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37225-7BCB-425E-8975-F01F99BC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CD1B4-48DD-4C64-B771-976BC40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AE3A2-D9D2-49FC-AFB1-148BC7A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A5010-D044-4196-B145-B59E75B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6519D-B492-4FCD-A802-0A84D96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D16B0-7383-477B-B2BD-80225F90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B81D5-704C-47C0-95E6-D0F10499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63984-17B4-4988-9733-E456B92C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C49DD-24FD-4D6E-A306-F6E068F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048F3-FDAB-4A37-B549-759FE9C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2D9CD-A6F5-4D39-B3CE-450B7D49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3337D-ED78-42EF-82AB-BA7D7C4C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44532-7D16-48D9-AD74-ED49A9DD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E0B1A-A8B8-4FAD-BC43-BB4C22C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1B162-9E8E-4581-939C-72F31C6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E267A-ED89-4992-AA61-7A41622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4E7-DBA8-4ABC-917D-91372D48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56735-F203-4BF2-9852-A010B92E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684A7-9F15-45AA-8920-C450021B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E22C8-45C7-499A-BF19-0A4416EF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B38EB-2D70-4417-B74A-31BFF57983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5594B-E3C9-4D9F-B1D6-24D95FAA3EF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FE2EA-088B-4115-A9E3-A159AE149A9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54CF5-98B7-4E23-B4E3-0077DFA12B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A3CF8-F76A-48DC-8A71-6E9DA8A61C7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7CD17-A1B9-43B1-8D74-7CE756752A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DE61-98CA-4243-B13F-245CCCE12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C3E-3ECA-4337-A58A-EE6FF19A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B3626-56B5-40E5-A20B-1AECADF6B8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BE6CA-A415-450D-836C-917E22DE3F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351D-33CA-4FFF-B781-6CC71EAD05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522F0-A330-4D94-B272-A216DE98BD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3253B-D98B-42E4-AFDB-EB03C77E97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2C11B-2B87-46FE-B7F5-EF9C273E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80A30-E880-4DEB-860F-C0DD306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704BA-AD9A-45BB-A113-FA52372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C7916-6E90-4756-B0AD-FCB2A8E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CD62-C281-4CA3-8A2A-8621E7D1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7B4-CDBC-480E-83FF-A3078A67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8E04-C35B-467C-821A-3F6506D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C2CC7-F3DB-4930-B9ED-9E4DBCB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3AA43-6D5E-4FCD-902B-FD78C6E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04FDD-B9A4-451C-9AEB-2B60D9A3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1A247-C9D8-4F59-A704-74A63EE9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80E22-B8F2-48BB-8D0B-AB85C447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1806B-02E5-4788-A81F-D68EBEE9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0EC1B-869E-4121-B6A6-29858BC1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4E617-D01A-4111-B7CB-AF20CA6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80F90-86E3-4FF4-A59A-CD4C8F9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D5F-D451-46F8-8092-778A808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40566-4732-41CC-A378-502095D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436CD-C1B5-4405-8037-37F6ED63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24119-3BE0-46C7-8FA2-DD88343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C2CAB-948D-4EA2-B876-B77BC22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1902-2855-410F-8069-44201AFF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2B279-CD21-4570-A057-B290F7C9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8F6EF-6F05-4023-82E2-71DBC638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78D0-50C1-4B4D-AED3-95A4405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33E40-053D-46D7-AC2A-EA30DCDE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D39ED-BD7D-419F-924C-542AC4CE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CC0-CD52-4646-AF9C-777EFB7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09A9-67FA-450A-B99C-FE6E328D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E9DE8-A0D8-4B33-9593-7FFC318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5BE8F-7D51-4423-819A-EA6DB978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A8E77-2C15-4CAF-A4EA-722B822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F3A32-9101-4B04-9E7D-B1D69F3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D5612-5583-4472-8224-C1B0E97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D7675-F928-4138-BF60-44B0029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68D0C-912D-412B-A725-83F0DB18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B57ED-E151-4871-B93C-76F75454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A2A89-ACB7-4650-8338-CA56FC37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FCA-8B15-4D0E-945E-23E1601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BF47C-A1E3-4BF4-A970-E9CA6FB6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01ECC7-ADF0-4F77-A525-1CA0CD7CE1A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1E6B65-FA73-4374-8199-EC8FD3C5B28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AD1856-1EAB-4009-9811-C5EE293C2AD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EC0717-D87C-4B31-9127-31A361E2C8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7BF191-A996-4C3D-AFB0-B96FB067962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B81E7D-FDFA-4B6A-8F3E-5EB7A63EF3D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3ACDF0-58E9-4F25-A0FD-1F434E4E050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B5C801-BC8C-4625-A075-2237492CE0A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691F85-D4FC-4AD9-80FE-110005C51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B2A-C114-436D-8C60-8EDB5B3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C47989-8952-48C4-848E-1F492152616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27E601-C1D6-4B6A-A61F-0C76CFF15D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C24923-B612-4A22-8BD0-528141D2B5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6A671D-AA6E-4B99-96D6-D5F2A194497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423C44-05E4-47CC-AF1B-D42C6193679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10B526-1E9A-488A-96AD-5AFB85CDB66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3E7F37-03FD-43F6-9C47-EBC86467842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E3B8A6-6553-427C-90D8-DB07E969FA7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E8E585-AD24-49B6-B0AD-AC06AC68AE8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EE13FF-F7AC-4DAD-BF01-B3F6C9CF6B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A81-F2F1-47B9-85D0-88BCB78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D6585D-9C37-449B-B05E-0C2A92F87AA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396827-5F5C-48F7-BDE0-CA252364EC1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5A84CE-DFC8-4C32-99D2-1CDE7C2636A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1172D1-1663-4E10-B378-09B3A4C15E7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46276E-EBF3-4A9D-B902-603AAC8F56F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7106F-1662-487C-8DF9-E4FA16CDC9E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696CB-5FB4-4118-A9DB-A298C56D58B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87E9C-C571-4E93-BCAA-2B03A6D178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DD908-43EC-43E3-9DDE-15C2C6A3A48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9639C-7E8B-4A22-9C56-427C3EE09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9DF-A96F-493B-9186-A6372FF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A0B24-E649-4CEC-8023-CFFF2F3C304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05F5E-AB9B-4B8A-B82C-A0FD4313468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28EDC-AE14-409B-94BB-4943195D37B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35F88-FD81-407F-8C87-08BAC98D99E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96248-9112-4850-83E0-94F127DAA41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6992A-8962-47EB-B4B4-DF245019EC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DCFF3-E740-4941-B5A9-E62BDCEC5F4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7C6949-9871-4483-8959-FA1D23EE542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A44761-5010-47DD-B8C8-14C497028C6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205E20-CE72-46E0-9923-E8367FD0F5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691-E814-4093-9F1E-922E3C0C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06E539-80EC-42F7-9BE8-D73791C7CDA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25AA58-EEC4-44DF-BCFF-C021FC168B2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6472B1-D086-425F-A460-5FCDE28903F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ABE234-4329-4403-9757-D07E041B66A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7E44EB-96BB-4E58-956B-E5A5C95B889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CCFDB4-EB4B-452B-8A8D-A6883EEE62C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4C1D8D-8A8B-49FF-96E5-01D9BDCE07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864F06-E31C-4413-8315-BAE85B1E41B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597709-791D-4474-BFF5-4EE5D2F04A3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3BA834-9338-4A31-85AF-FF657C701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E8F-20F6-4B5F-9C8F-A294FEE2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270AB4-4B11-4189-8E75-623FE0CE7A9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7E99BC-3A6F-4A24-97C3-C3AEE3016A8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D54831E-6BEC-4DEA-B0AA-C93C12B5FC0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D79952-7FC5-4FFE-8E4B-9CBD8E64590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DFED03-5C6F-49F3-8D33-2FEE4F3BA14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E58896-6773-4C91-A8AB-5EB09169214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DDE03C0-755C-4CC3-BD4D-D3443FA41EA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6D70CF-BD55-4190-A564-A0CA31D276E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95B795-3DB4-4D49-AD61-3094409AFF2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35DA0B-EAAA-4A0C-BB1C-C9EDAD8CD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81C-ED6B-48F8-9220-52DEC0C1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D83D8D-5BF4-439B-B701-D950213CE56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D673E-08AF-4A15-9A43-F8F7DFFA7F7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205FD-CAEE-445C-9F5B-CA959C94C54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B48FD-2791-43D6-9344-54748D084D8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D7931-E486-4BAD-BCE1-D69971660C2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D522E-74DC-46EE-B8C6-9D26714FA1F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1AE89-B35A-429E-A4E1-6CFA1A1CE7A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74B30-5AE9-4E49-9F63-A001E736CCF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03AFB-FFD0-498C-A369-50F9754D17F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692B9-A8A1-43DB-9FCE-54EFD5F62D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D9630-FDE4-412F-B3B2-95F1C62A352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F43E3-7E1B-48D0-8F71-783DB270BCC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86350-B9ED-4F1E-9C8A-7F003BBAB4F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58BC5-4D76-423B-AD5A-4DF56BB499B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9F67-8807-4F54-937E-3148B92D903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C9771-1C35-477E-99BB-94192386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78953-AB67-4AEC-9169-F74E4645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E2A61-347A-4C78-9BB0-A6709C2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A9E43-AD3F-42B3-8791-FF373D0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CE974-9039-4569-BAA6-933C147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2365-4AED-4324-BF61-92C40C15794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DF11D-EDBF-4D47-9422-272637D3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D7D8F-844E-44AB-8326-CBAE42D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71BF7-2F0D-443B-9628-E62B940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543DD-CA97-4A39-9363-8D02FBC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6D126-54E5-4D12-B3F1-F034E5C7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C07AD-CCBB-4553-9869-7D0CD99E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46601-9357-46C0-8FDA-CF75923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6EF97-8154-4B32-9F8D-13E05CDB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52A52-2AC7-4003-896C-EDBF7A4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07132-608D-4A97-B852-9A8B327A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99E3-0D74-4547-B7A4-F9103666C12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06495-49B7-453D-8291-597D4A4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A115D-E631-45F1-933E-1BE18A0A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A9E39-7384-4328-BFBE-9FFDEE9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585DF-C000-445F-9770-54275AB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2F5BA-590C-425E-B87A-DA42E2C1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CFF13-9439-4461-9BCE-DD34D2A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8EFC2-FE80-4972-A015-23FE6B5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CF462-CDBB-4E3A-BC74-C8966260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7A416-AF82-47AF-A917-E0714223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03B924-6F33-483E-84F0-52AB4220CD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D97A-9F66-4473-AD93-2275F75BE14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8008F8-F9F0-4C84-BBF8-74FEFF4C8B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27EA3D-182F-4967-B23A-8738A1B416E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8E63A3-D39C-4068-8EE8-21F3276F7E4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F943F8-1053-43CF-9A2A-AAF2B070453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CB4D93-D931-4D24-8019-7A8E4B87DA3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C191E4-FE1C-4C1B-93DB-BC12839E1ED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543011-00F0-4038-9745-5B91BCC3BB0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86F473-CDDA-4F75-A1D8-D0808E9AF92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81C272-8AF1-473B-9A24-4D39E059433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0C3A1C-D439-4B7D-8488-D1B71082A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0D94C-C9A3-419C-A04C-FB4B8C4B21D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586C81-7054-4D8C-94AD-AF4426B059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C9D8B3-DB70-414F-A82F-867AF351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33880C-4E42-4D40-9658-B1C92C6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2ACD56-903E-4D09-AB2B-325612C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6CEE91-D93C-4896-80EF-C984297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055688-9E99-4CC0-BB8F-0BF783F2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B5DCC3-1A11-4ECD-80A7-CE79A33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20ADD0-2984-41DB-BD55-5AB728E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A273C4-B7BF-45EA-92B4-98732E3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4FDBD3-EBE5-4D7F-8FCB-12EE278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7424-4272-447F-AEDF-294B655EA4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783A74-3EE4-4DB2-A44D-6B57C55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284CB35-7815-4B5C-9B52-2859E418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46FD49-5A18-4DDF-BB69-6EC7CEC6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9420C1-683A-492B-B54A-D3BC5AA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5CDF60-B8D8-4637-A9FE-25746D2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464A6A-0AE9-4BE0-B9A0-DCD5413F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A8D21A-90A7-4655-B7A4-8E2721AB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D3BAEF-9EBA-4A26-963F-4D9516E9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F5A8999-0ABD-4516-8B7B-50555249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56FAED-833D-4EFE-BB10-AD93573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022ED-E2E0-479B-9003-84E818C0DDB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344F5E-F1B7-4879-B500-C69D290D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D5FA8C-0030-43B8-9998-7C2B44B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BBA0F1-F7BF-49AE-83F9-46E884C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4B424A-E832-4377-A0D7-82F550CF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30B2A7-CA60-4605-BBFF-2D5D4CB0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DD5D82-3989-4FD6-B19C-0CE3EA23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6974860-0560-4388-A5BB-0CB6006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A57068-B1B3-4545-B20A-BE658F4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81BB43-EACF-4F58-8CFE-5EAD3CF0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00DB74-D7C4-49A0-B42D-1C2D244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5DE9-B664-40B8-9644-3DB9C1A056C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ABEA08-38AA-40C4-8ECF-E7921C1D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73D893-E80F-4623-8147-613330F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C6722A-9713-46CE-804E-7B8B8FE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0AA4E2-C9ED-43BD-9063-7BE7EAC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38AE32-BD51-4637-8A0E-8D689713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EEA3A4-16F0-4022-A73E-693D2A7C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CE29EF-B602-4AE5-8B0E-507788E8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FA786F9-D5DA-47D7-857C-012B97B11AD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D0DECBA-6665-4CD0-B73D-980866A08A7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346AF2-A45A-4AB9-AE89-7E109EED03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98C7-3BB3-42A3-9BD8-8C9C0B3A2F4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124543B-B888-4A7F-9929-F49A6AAFDF7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E472C7-7162-4093-AB76-EE378A6B2BF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7DFCE2-16F0-4488-82D2-AB6D74CCFD6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F05D09-5E7B-45D5-8020-C39136F7042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0E7600-D8C5-4ED5-A4D8-817EC054279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E9E3DC-A691-4DED-BA52-3794911A5F6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6CEE8F-346A-4732-A1D5-A31BAB9515F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E09701-422F-4457-AA69-5F65FC34CD8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944809-1D95-42DC-A686-AD86FB2E506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D81FE0-737A-4437-9337-B8BA07AABC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18A0-695B-4C48-9C34-20AD6FDEFB3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71F681-19A3-4604-933F-81DB237C078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9A2DEC-1317-46EC-B4EE-2BD4CCBA142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6E1F81-A5F0-4682-9E77-6010A4E5CB4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486A93-1393-41AA-8784-618561C95C5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C7C97-07BA-40D7-82C3-C48A5DF359B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64816-30BB-4C3D-99D4-1B70548E521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1F1DD-F087-46C7-BFFF-D1EA704CFF8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DE3380-1FA8-4BA0-B953-9326B5FCBE6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46465-88A3-4381-AF48-35C7900C204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869A35-C103-4A30-8754-C7BA08E908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6BD8-577C-4A96-BFBD-C98C4F3926D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EB290C-5D76-4CC6-9B47-3FE5525CD07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1EBA0E-86CE-4C93-A8DB-3E47DAB54CE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EF2C84-50EF-4B84-9DE2-9C8C2FB4D55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ABC514-1836-4B1C-BB2D-179429E0549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30C10F-DC10-4B9D-BFDD-8AD17E6DE46F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D8D4B8-DF0F-4F01-B7D7-28BF1A2DFF0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5B0308-5E63-4175-A22D-A555387F6BE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3DEB51-87D5-4997-833F-56CD6C463DF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0369AB-A2DF-4CE4-92B3-BE4EFD0CBF3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C0D8DB-E26E-48F6-9DF5-969F9118C9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2C362-0103-4CF0-A714-CEE4FA7C97B8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B6162F-582D-4896-8A0B-52363FF2F91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AD6031-8387-465C-8825-BE696B317C0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32BE17-ECA7-4C74-BA3D-84FF9E5D2CE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BFACD2-B18B-47CC-B1D6-5A9F6EBDDD1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1720AD-4DA5-4D0B-A852-16C63E47558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2741427-E672-4969-BDE7-76BE7A63599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2FDA11-6E05-4056-AA6E-7D546FE2FD8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744CFA-636D-4BF4-AA07-0078B21F5C1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3DADB6-885F-4782-8E3A-0B7759D98BD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0CF3AC9-847B-4730-9235-9E66D6969E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6F2DD-F525-4BCF-A33F-3C7D90B0305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22B8590-5796-4AC9-BD88-EBF614E22F1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4FF4C4-C7F7-4DD8-910A-0D5C2D8D611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34595C-997B-482C-9E30-025312CB5A5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3A4DF05-A294-47BB-BF89-5DB94EB04D4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478BE06-3728-4BD6-8BC5-CEA86C46F32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4BB08C-45DE-4464-B477-8D7F92E249A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55AAF0-C71A-478E-8F0E-6DABB9D51F4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731CA4-52D8-4E20-A978-840F0497D8B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B92054-6CA8-459F-A3CD-070257EDF07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038088-F095-45DD-9E28-37522E042B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791D7-16F2-45E4-8902-0B4EBB02697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2CEF43-3984-4507-83DA-0A15400E38F3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52889B-7BBB-452F-9589-449B6ABE82E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B36561-3A0E-46E8-BAF4-8DCD5869FAA8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647D88-2916-4093-AC3A-040AC865150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2BDEA-9699-407D-8D8C-D02588EFD0B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010EA4-D625-42F8-B4E9-30EF9E87290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3A8F4-601F-450B-AFB6-E3FAE1A70F3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28E535-3079-46B4-ADCD-B5A62E0FDA8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73A889B-6E2B-4B18-9CAA-E3652C73A4B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F13EFE1-0450-421D-B7B7-DA8F37A26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FD1F7-97A8-4B54-ADC5-9A8B2BED3D05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D2CA823-F4B0-444F-803A-3DD781E486B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B91691-25CE-4D4A-9BB2-F6225181027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128999-BD30-4989-BBC3-827673F4E23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D69A1D-ADA1-4636-9280-FCCBEF37757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DFD387-699D-4AA9-A0AC-1912BF7842C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864738-E3FE-4DF9-AE9A-1064BA518DD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3602DD-6B1F-470B-B6FC-D8BCA1A793F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2DB7E4-F491-493B-8C8F-094423074D7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2D8FEC-2542-4302-9034-97BC2B1F329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71A7A-F533-42AF-A1E1-9503D724856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EA858-8D06-4A47-B82C-D36DC7C9A91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F196816-999A-40BC-990F-614DF407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09D86D-B3A4-45E8-8C28-F68D8CF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E5AE7CF-C338-41CE-86B3-0B240C6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8254D9-BF80-4029-A5BB-324CB94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6A15A14-4FE4-4A1C-930B-9B5DDBA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A3B07E-96CC-4F8A-BD29-E71B265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3553E01-915B-4A89-9DBC-101D1DA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E7AA3DA-6340-4259-B3A0-803D6B3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76DC96-84CE-4FF5-8D7F-B9556C4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AD935-F610-4BE6-9097-D257C6CC5AD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D0ADDA-B064-4BC9-83BF-02A17B2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46AB69-AE92-49B7-A125-720CA94E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30E7CA-2445-48D8-A848-B73F4628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136BB-C5FC-4BE2-A8DB-3D8E375658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D4315-C48A-4D0E-9D9D-BCDC10BC38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01FB8-AAAE-43E6-AA32-8E3A4334FF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DDD29-76F5-4BD8-8017-0EAC7F49BE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39E28-EE5F-4A5C-ABF3-67E2525DB0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4E892-3A7F-40B2-A917-9055962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FBF72-08FC-4552-8A7E-B7D6DF3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FC30E-F3CD-47A5-BFB6-2705A998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A3185-2E66-4F89-BE52-83CFFDF1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0B98E-D7C6-43CB-8B49-ECDB67D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C70B4-03CA-467C-BA9D-5A4AF094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6B848-6F9B-4D1C-A893-77DB310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0D07B4-3187-44BF-B651-A480D45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98DCFE-62F3-4CD1-8331-A328084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B6DE9-24FE-4777-9285-EC492F1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140C4-EF86-4230-A916-B07B87F5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A738E-0414-482E-8570-63CEE40B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BEE48-3385-4683-B4BA-DF8A094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83F3A-698E-4498-8B03-64F297B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1FBA2-7222-4AF1-ADA6-9957A750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4A414-FF69-4DAD-8D3B-EB3D18C8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82E18-5D0A-4304-B16A-F691A8C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B938E-87A5-4F29-B58A-DD8D67E8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F85D4-6DEB-4531-AB6E-A3C2CB3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7ACA4-4362-41F8-BEFB-85B3A1C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CC0E0-95F0-4B68-9716-187BDFE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23EAE-5149-4570-9C11-00C5C54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065A84-F0B0-468F-88DB-F3CA967D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F3B2B8-8911-4DFA-B1EB-5901CD87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CA3C77-0D0A-4CBF-893E-933B380B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1B936-E0E3-43F6-A096-9DA41A9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6F004-5065-4644-B60B-736BA13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C779D-48E5-42AB-B1D7-1107E55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5F93A0-149C-414F-A1F4-F7F128B4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B0322-593A-48D5-BCDB-C9FAE45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F02CE-2902-441C-BD74-BC239B2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987D89-2D32-40AD-8FDF-1841B86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A2A58-90EF-441E-BEB4-50B1B2CF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38E25-FA4C-4BCC-A4BC-93EF565D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C0A58-2FA6-482D-8F76-77EE5915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24ED36-CC60-4E6D-81DD-6791B0E0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C1D84-5420-41A4-81DA-402AF29D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272BA-BBB5-4AB2-ABA2-CD68C637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980E9-9EFF-4EDA-8A0E-9841E289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6F5873-691E-48E1-A9A3-FD722FC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3F8BD-FDEB-42F2-BBA0-13E07B24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8760" y="364320"/>
            <a:ext cx="10960560" cy="70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F647B-2CDD-4ABB-85B4-686A5C7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B1BB1-E9D2-469C-9364-18B5200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5136EE-0119-4E0D-A942-6F092D0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56849A-6CDA-4049-BEB4-E095542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8760" y="4903920"/>
            <a:ext cx="1096056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72D8B4-F2F8-4C45-9B7D-89900AD9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25120" y="213696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76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25120" y="4903920"/>
            <a:ext cx="534852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A45D4-B476-4D7E-9846-111E80F0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1460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20440" y="213696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876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1460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20440" y="4903920"/>
            <a:ext cx="3529080" cy="252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892EB2-8865-4865-9D42-BE6668C4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1052CA-D63D-4B36-A3A9-C78E324D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0E9384-EC19-4CF3-AFE7-27AA1DAC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EF0549-3DBA-4ADD-9E07-80D4DF9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dt" idx="23"/>
          </p:nvPr>
        </p:nvSpPr>
        <p:spPr>
          <a:xfrm>
            <a:off x="912600" y="8322840"/>
            <a:ext cx="25383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4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5"/>
          </p:nvPr>
        </p:nvSpPr>
        <p:spPr>
          <a:xfrm>
            <a:off x="8727840" y="8322840"/>
            <a:ext cx="25383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8519C8E8-F64B-4C42-8C0A-672F6AABE4D4}" type="slidenum"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6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C10B513-B96D-4C8F-AEE1-357216F0FF0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7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8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342B845-8CD6-476F-B146-EE20F7FBD3FA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s-ES_tradnl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5B6ECF8-6279-4118-85EC-844CE903B1F3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76371E3-EE68-41A1-81FB-48514CF02AC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7A63686-76E7-477A-AB73-E31AB5205E2C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7BAC7B7F-31FB-4993-B162-4EC1791ABA2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5E89C79-4FBB-45E5-A106-C639422559BA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7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CA10D7C-0832-47C7-9A44-A2763D64F08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8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9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5725040A-4BBA-4D83-A8CE-8D8DEA93E571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40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41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3E328BF-89D8-44E6-AD3C-9947D7FA0E2A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2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3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2F66D47-798D-4791-B8D3-A15D0580B65B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ftr" idx="44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sldNum" idx="45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4340E646-8CE7-41D7-B289-57B03233274C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6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47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36363A0-96F2-4D43-948B-49267258614F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987480" indent="-3780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517760" indent="-3002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128680" indent="-3013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738520" indent="-30312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738520" indent="-30312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738520" indent="-30312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s-E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5C9257FE-3A14-4DBE-A892-6AD60D8935DF}" type="datetime">
              <a:rPr b="0" lang="es-ES" sz="16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s-E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03CB554-A02F-4A64-BFC0-D38158A043BF}" type="slidenum">
              <a:rPr b="0" lang="es-E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ftr" idx="48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49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1151D2B3-D2CE-4D80-AD2B-FC64169149A8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0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sldNum" idx="51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F8BA9F5-20D3-4823-9FCE-45D74DEF08DB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52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005B81E-5684-4B3F-B285-E64249130D9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53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54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5A1D9EFE-3B24-4D5B-A0C2-8AD54519403D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55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29D2C97-79DE-4F6B-B4A7-970D7B5C5E6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56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57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0C86F855-8E7D-4441-AE5C-42FDD8BEAB90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7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58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s-ES_tradnl" sz="1200" spc="-1" strike="noStrike">
                <a:solidFill>
                  <a:srgbClr val="898989"/>
                </a:solidFill>
                <a:latin typeface="Verdana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59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5A0AF772-CCBE-4C34-AB9E-24D72A3F528A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60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069F8751-F4A6-479C-A77B-E9552435AE4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61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62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B47C14B3-FE19-42EC-A62B-C012DE8EA94B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63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C2ADA16-3ECB-4FA6-8F0A-07B7B4B4DFC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64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65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4ED37084-F278-4A9B-AF56-168AF82CFB3E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6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20072404-6E0B-46BB-8EF0-9EBD96E1C41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7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8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EF447883-780C-4E2F-B24B-DBF23AAE4DE5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7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ftr" idx="69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sldNum" idx="70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66F7E848-6A2E-4D1F-97D1-3C0340ED584D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7480" indent="-37800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17760" indent="-30024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s-ES_tradnl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28439D5-EDB7-4EFE-9E8B-605742E169A4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9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1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ftr" idx="71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sldNum" idx="72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581686F0-6127-43FA-B1CB-77F4747B0EE2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3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5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ftr" idx="73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sldNum" idx="74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68652B41-4BDB-477F-9C46-2177942A1F01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8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ftr" idx="75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sldNum" idx="76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1A496088-AF4A-437D-8735-ABFB92CE87D0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1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2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3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ftr" idx="77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78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3E65CF31-699E-4F10-9DCF-405ADB02376D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ftr" idx="79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sldNum" idx="80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574EB3C7-5C43-41A8-BE00-074306695116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9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0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1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3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8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073BAB55-EB25-4594-A176-13A1E69519BC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82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83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2D37BD22-42B2-4410-8604-B16D85D88AF9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1" marL="988920" indent="-37944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2" marL="1521000" indent="-30348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595959"/>
              </a:buClr>
              <a:buFont typeface="Arial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4" marL="2739960" indent="-304560">
              <a:spcBef>
                <a:spcPts val="675"/>
              </a:spcBef>
              <a:buClr>
                <a:srgbClr val="595959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5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lvl="6" marL="2739960" indent="-304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6"/>
          </p:nvPr>
        </p:nvSpPr>
        <p:spPr>
          <a:xfrm>
            <a:off x="2520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s-ES_tradnl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7"/>
          </p:nvPr>
        </p:nvSpPr>
        <p:spPr>
          <a:xfrm>
            <a:off x="823572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13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C986FC9-4796-4026-9D49-6A8E9AA47312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206080" y="-7920"/>
            <a:ext cx="379440" cy="115416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1585520" y="0"/>
            <a:ext cx="461880" cy="11462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206080" y="8524800"/>
            <a:ext cx="379440" cy="60984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1585520" y="8524800"/>
            <a:ext cx="461880" cy="60984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8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8F14E53C-B838-4BAA-8729-1A8D80719C3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9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0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303FCFBB-3615-4DE3-83C1-A9A19ED79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608760" y="364320"/>
            <a:ext cx="109605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3960" indent="-45396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lvl="1" marL="987480" indent="-378000">
              <a:spcBef>
                <a:spcPts val="924"/>
              </a:spcBef>
              <a:buClr>
                <a:srgbClr val="ffffff"/>
              </a:buClr>
              <a:buFont typeface="Arial"/>
              <a:buChar char="–"/>
              <a:tabLst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517760" indent="-30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2128680" indent="-3013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2738520" indent="-30312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2738520" indent="-30312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2738520" indent="-30312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21DA43E2-C9F7-4875-AF3C-DE94E3F65C9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8017459-94A4-4F18-AB48-40878BB1B0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4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33032E0B-0778-471C-83F6-4E936DA918E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5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6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5C9E8815-9244-4E17-B93D-0E21F955D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7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3005F114-A02E-44F2-8B92-34EDC09A226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8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9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34B02E46-4E4D-43F1-BA8C-7BAA20C46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3243240" cy="1827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33520" y="4432320"/>
            <a:ext cx="3243240" cy="47023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dt" idx="20"/>
          </p:nvPr>
        </p:nvSpPr>
        <p:spPr>
          <a:xfrm>
            <a:off x="912600" y="8322840"/>
            <a:ext cx="25383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21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2"/>
          </p:nvPr>
        </p:nvSpPr>
        <p:spPr>
          <a:xfrm>
            <a:off x="8727840" y="8322840"/>
            <a:ext cx="25383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marL="216000"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fld id="{2A0A74D9-66E9-43AA-843C-D34B06498AE5}" type="slidenum"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Administrador/Mis%20documentos/CAPACITACION-2/TERRENO.xls" TargetMode="Externa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3 CuadroTexto"/>
          <p:cNvSpPr/>
          <p:nvPr/>
        </p:nvSpPr>
        <p:spPr>
          <a:xfrm>
            <a:off x="8415360" y="8148600"/>
            <a:ext cx="3197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Marzo del 201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3" name="1 CuadroTexto"/>
          <p:cNvSpPr/>
          <p:nvPr/>
        </p:nvSpPr>
        <p:spPr>
          <a:xfrm>
            <a:off x="0" y="2654280"/>
            <a:ext cx="1120932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Arial"/>
              </a:rPr>
              <a:t>METODOLOGIA DE MANTENIMIENTO VIAL URBANO (Manvu Simp.) Ejercicio en Terre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3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809168B3-C304-40CF-86FA-73389D6166E8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3" name="Picture 2" descr=""/>
          <p:cNvPicPr/>
          <p:nvPr/>
        </p:nvPicPr>
        <p:blipFill>
          <a:blip r:embed="rId1"/>
          <a:stretch/>
        </p:blipFill>
        <p:spPr>
          <a:xfrm>
            <a:off x="431640" y="922320"/>
            <a:ext cx="116586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3600" spc="-1" strike="noStrike">
                <a:solidFill>
                  <a:srgbClr val="006cb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6cb7"/>
                </a:solidFill>
                <a:latin typeface="Verdana"/>
              </a:rPr>
              <a:t>EN RESUMEN:</a:t>
            </a:r>
            <a:endParaRPr b="0" lang="en-US" sz="36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291600" y="1968120"/>
            <a:ext cx="10944360" cy="386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PARA CADA TRAMO Y/O SUBTRAMO HOMOGENEO SELECCIONADO  Y EN FUNCIÓN DE LOS PARÁMETROS BÁSICOS CALCULADOS QUE SON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 ÍNDICE DE SERVICIABILIDAD "P“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 TRÁNSITO TOTAL, "TMDA TOTAL “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 TRÁNSITO PESADO,  "TMDA PESADO“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 ÍNDICE DE AGRIETAMIENTO, "IGR % ", SE EVALUA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 LA RED INGRESANDO E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N LAS MATRICES ASOCIANDO CON EL CASO TIPO CORRESPONDIENTE Y SELECCIONANDO LA POLÍTICA DE MANTENIMIENTO DE MAYOR RELACIÓN BENEFICIO / COSTO QUE ARROJA COMO RESULTAD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6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49D20808-FFC1-4BD2-B8ED-4881480ADE96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12960" y="810720"/>
            <a:ext cx="10353600" cy="11178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3600" spc="-1" strike="noStrike">
                <a:solidFill>
                  <a:srgbClr val="006cb7"/>
                </a:solidFill>
                <a:latin typeface="Verdana"/>
              </a:rPr>
              <a:t>COSTOS ASOCIADOS (UF)</a:t>
            </a:r>
            <a:endParaRPr b="0" lang="en-US" sz="36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193680" y="2585520"/>
            <a:ext cx="5075280" cy="809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Verdana"/>
              </a:rPr>
              <a:t>HORMIGON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678720" y="2638080"/>
            <a:ext cx="5176800" cy="585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Verdana"/>
              </a:rPr>
              <a:t>ASFALTO</a:t>
            </a:r>
            <a:endParaRPr b="0" lang="en-US" sz="2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0" name="6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B5CAB59-492A-4D13-98B4-789A88F3D2EE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1" name="Rectangle 5"/>
          <p:cNvSpPr/>
          <p:nvPr/>
        </p:nvSpPr>
        <p:spPr>
          <a:xfrm>
            <a:off x="203040" y="3495600"/>
            <a:ext cx="4897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SELLADO DE JUNTURAS Y GRIETAS CON LIMPIEZA 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Verdana"/>
              </a:rPr>
              <a:t>0.1 UF/ML * 0.387 ML/M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REEMPLAZO DE LOSAS                                   :  2,3  UF/M2. (ING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REHABILITACIÓN EN HCV                               :  2,5 UF/M2. (ING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- CEPILLADO 0.22 UF/M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2" name="Rectangle 6"/>
          <p:cNvSpPr/>
          <p:nvPr/>
        </p:nvSpPr>
        <p:spPr>
          <a:xfrm>
            <a:off x="5870520" y="3502080"/>
            <a:ext cx="58705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- BACHEO SUP. PROF.     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0.7 UF/M2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‑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SELLO SUPERFICIAL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0.1 UF/M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‑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RECARPETE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ASFÁLTIC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0.5 UF/M2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‑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REHABILITACIÓN : 2,1 UF/M2 (ING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590480" y="806400"/>
            <a:ext cx="9637560" cy="18813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ES_tradnl" sz="2000" spc="-1" strike="noStrike">
                <a:solidFill>
                  <a:srgbClr val="006cb7"/>
                </a:solidFill>
                <a:latin typeface="Verdana"/>
              </a:rPr>
              <a:t>APLICACIÓN SOFTWARE</a:t>
            </a:r>
            <a:br>
              <a:rPr sz="5300"/>
            </a:br>
            <a:r>
              <a:rPr b="0" lang="es-ES_tradnl" sz="2700" spc="-1" strike="noStrike">
                <a:solidFill>
                  <a:srgbClr val="006cb7"/>
                </a:solidFill>
                <a:latin typeface="Verdana"/>
              </a:rPr>
              <a:t>Link: </a:t>
            </a:r>
            <a:r>
              <a:rPr b="0" lang="es-CL" sz="2700" spc="-1" strike="noStrike">
                <a:solidFill>
                  <a:srgbClr val="006cb7"/>
                </a:solidFill>
                <a:latin typeface="Verdana"/>
              </a:rPr>
              <a:t>http://www.minvu.cl/opensite_20080319113615.aspx</a:t>
            </a:r>
            <a:r>
              <a:rPr b="0" lang="es-ES_tradnl" sz="5300" spc="-1" strike="noStrike">
                <a:solidFill>
                  <a:srgbClr val="006cb7"/>
                </a:solidFill>
                <a:latin typeface="Verdana"/>
              </a:rPr>
              <a:t> </a:t>
            </a:r>
            <a:endParaRPr b="0" lang="en-US" sz="53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1993680" y="3017880"/>
            <a:ext cx="6143400" cy="3565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ES_tradnl" sz="2700" spc="-1" strike="noStrike">
                <a:solidFill>
                  <a:srgbClr val="595959"/>
                </a:solidFill>
                <a:latin typeface="Calibri"/>
              </a:rPr>
              <a:t>Matriz de terreno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ES_tradnl" sz="2700" spc="-1" strike="noStrike">
                <a:solidFill>
                  <a:srgbClr val="595959"/>
                </a:solidFill>
                <a:latin typeface="Calibri"/>
              </a:rPr>
              <a:t>Ingreso de Datos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ES_tradnl" sz="2700" spc="-1" strike="noStrike">
                <a:solidFill>
                  <a:srgbClr val="595959"/>
                </a:solidFill>
                <a:latin typeface="Calibri"/>
              </a:rPr>
              <a:t>Evaluación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ES_tradnl" sz="2700" spc="-1" strike="noStrike">
                <a:solidFill>
                  <a:srgbClr val="595959"/>
                </a:solidFill>
                <a:latin typeface="Calibri"/>
              </a:rPr>
              <a:t>Matriz de Resultados</a:t>
            </a: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5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14FC6D6E-F23A-4E3A-9C0F-287EBBA45B7D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s-CL" sz="3200" spc="-1" strike="noStrike">
                <a:solidFill>
                  <a:srgbClr val="006cb7"/>
                </a:solidFill>
                <a:latin typeface="Verdana"/>
              </a:rPr>
              <a:t>TMDA </a:t>
            </a:r>
            <a:endParaRPr b="0" lang="en-US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27" name="3 Marcador de pie de página"/>
          <p:cNvSpPr/>
          <p:nvPr/>
        </p:nvSpPr>
        <p:spPr>
          <a:xfrm>
            <a:off x="25560" y="8694720"/>
            <a:ext cx="385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8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EA10D2E1-2857-4B25-A5BC-B1BAF5683B84}" type="slidenum">
              <a:rPr b="0" lang="en-US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9" name="Picture 1" descr=""/>
          <p:cNvPicPr/>
          <p:nvPr/>
        </p:nvPicPr>
        <p:blipFill>
          <a:blip r:embed="rId1"/>
          <a:stretch/>
        </p:blipFill>
        <p:spPr>
          <a:xfrm>
            <a:off x="184320" y="1143000"/>
            <a:ext cx="11501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41E5C64-01CE-4059-B093-D4A7B553E69C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AutoShape 5"/>
          <p:cNvSpPr/>
          <p:nvPr/>
        </p:nvSpPr>
        <p:spPr>
          <a:xfrm>
            <a:off x="222120" y="61920"/>
            <a:ext cx="406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2" name="Picture 6" descr=""/>
          <p:cNvPicPr/>
          <p:nvPr/>
        </p:nvPicPr>
        <p:blipFill>
          <a:blip r:embed="rId1"/>
          <a:stretch/>
        </p:blipFill>
        <p:spPr>
          <a:xfrm>
            <a:off x="527040" y="447840"/>
            <a:ext cx="11220480" cy="80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02680" y="202680"/>
            <a:ext cx="1087452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s-ES_tradnl" sz="32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203040" y="1968480"/>
            <a:ext cx="1089216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3960" indent="-453960">
              <a:spcBef>
                <a:spcPts val="675"/>
              </a:spcBef>
              <a:buClr>
                <a:srgbClr val="595959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5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B9CE3CC-D491-4691-88D0-D6F3B38612BD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6" name="Picture 5" descr=""/>
          <p:cNvPicPr/>
          <p:nvPr/>
        </p:nvPicPr>
        <p:blipFill>
          <a:blip r:embed="rId1"/>
          <a:stretch/>
        </p:blipFill>
        <p:spPr>
          <a:xfrm>
            <a:off x="333360" y="444600"/>
            <a:ext cx="1103148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-360" y="345600"/>
            <a:ext cx="11595240" cy="82486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2" descr=""/>
          <p:cNvPicPr/>
          <p:nvPr/>
        </p:nvPicPr>
        <p:blipFill>
          <a:blip r:embed="rId2"/>
          <a:srcRect l="15743" t="11565" r="16087" b="9183"/>
          <a:stretch/>
        </p:blipFill>
        <p:spPr>
          <a:xfrm>
            <a:off x="1006560" y="355680"/>
            <a:ext cx="10532880" cy="854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C492FCA-75D5-47C7-9DA2-17919FC4B657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0" name="Picture 5" descr=""/>
          <p:cNvPicPr/>
          <p:nvPr/>
        </p:nvPicPr>
        <p:blipFill>
          <a:blip r:embed="rId1"/>
          <a:stretch/>
        </p:blipFill>
        <p:spPr>
          <a:xfrm>
            <a:off x="333360" y="345960"/>
            <a:ext cx="11318760" cy="844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3 CuadroTexto"/>
          <p:cNvSpPr/>
          <p:nvPr/>
        </p:nvSpPr>
        <p:spPr>
          <a:xfrm>
            <a:off x="7375680" y="8148600"/>
            <a:ext cx="4236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Santiago, Marzo del 2015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2" name="1 CuadroTexto"/>
          <p:cNvSpPr/>
          <p:nvPr/>
        </p:nvSpPr>
        <p:spPr>
          <a:xfrm>
            <a:off x="6894360" y="3932280"/>
            <a:ext cx="358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Muchas graci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09120" y="826920"/>
            <a:ext cx="10083960" cy="22053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2700" spc="-1" strike="noStrike">
                <a:solidFill>
                  <a:srgbClr val="006cb7"/>
                </a:solidFill>
                <a:latin typeface="Verdana"/>
              </a:rPr>
              <a:t>PROGRAMA DE CONSERVACION Y REPARACION DE PAVIMENTOS</a:t>
            </a:r>
            <a:endParaRPr b="0" lang="en-US" sz="27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1676160" y="2649240"/>
            <a:ext cx="8202600" cy="6634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2400" spc="-1" strike="noStrike">
                <a:solidFill>
                  <a:srgbClr val="898989"/>
                </a:solidFill>
                <a:latin typeface="Calibri"/>
              </a:rPr>
              <a:t>METODOLOGIA APLICADA: MANVU SIMPLIFICADO (V2-2008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2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6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1EFFCB4-61D6-47B7-B5F0-FAAA133FEEDD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7" name="Picture 4" descr="IMAG0006"/>
          <p:cNvPicPr/>
          <p:nvPr/>
        </p:nvPicPr>
        <p:blipFill>
          <a:blip r:embed="rId1"/>
          <a:stretch/>
        </p:blipFill>
        <p:spPr>
          <a:xfrm>
            <a:off x="203040" y="3957480"/>
            <a:ext cx="5378760" cy="406116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5" descr="IMAG0010"/>
          <p:cNvPicPr/>
          <p:nvPr/>
        </p:nvPicPr>
        <p:blipFill>
          <a:blip r:embed="rId2"/>
          <a:stretch/>
        </p:blipFill>
        <p:spPr>
          <a:xfrm>
            <a:off x="6089760" y="3957480"/>
            <a:ext cx="483696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12960" y="507960"/>
            <a:ext cx="10353600" cy="1217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FALLAS TIPO EN  ASFALTO</a:t>
            </a: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580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DEEB6E5C-71D6-419D-BC81-F0C5A75B2CB5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1" name="Text Box 5"/>
          <p:cNvSpPr/>
          <p:nvPr/>
        </p:nvSpPr>
        <p:spPr>
          <a:xfrm>
            <a:off x="1604880" y="2897280"/>
            <a:ext cx="2462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2" name="Text Box 6"/>
          <p:cNvSpPr/>
          <p:nvPr/>
        </p:nvSpPr>
        <p:spPr>
          <a:xfrm>
            <a:off x="1401840" y="2693880"/>
            <a:ext cx="2458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3" name="Text Box 8"/>
          <p:cNvSpPr/>
          <p:nvPr/>
        </p:nvSpPr>
        <p:spPr>
          <a:xfrm>
            <a:off x="692280" y="2084400"/>
            <a:ext cx="2458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4" name="Picture 10" descr="1"/>
          <p:cNvPicPr/>
          <p:nvPr/>
        </p:nvPicPr>
        <p:blipFill>
          <a:blip r:embed="rId1"/>
          <a:stretch/>
        </p:blipFill>
        <p:spPr>
          <a:xfrm>
            <a:off x="507960" y="1928880"/>
            <a:ext cx="4978440" cy="426240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11" descr="57"/>
          <p:cNvPicPr/>
          <p:nvPr/>
        </p:nvPicPr>
        <p:blipFill>
          <a:blip r:embed="rId2"/>
          <a:stretch/>
        </p:blipFill>
        <p:spPr>
          <a:xfrm>
            <a:off x="5683320" y="1928880"/>
            <a:ext cx="5106960" cy="4262400"/>
          </a:xfrm>
          <a:prstGeom prst="rect">
            <a:avLst/>
          </a:prstGeom>
          <a:ln w="0">
            <a:noFill/>
          </a:ln>
        </p:spPr>
      </p:pic>
      <p:sp>
        <p:nvSpPr>
          <p:cNvPr id="1586" name="Text Box 12"/>
          <p:cNvSpPr/>
          <p:nvPr/>
        </p:nvSpPr>
        <p:spPr>
          <a:xfrm>
            <a:off x="1706400" y="6448320"/>
            <a:ext cx="246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7" name="Rectangle 13"/>
          <p:cNvSpPr/>
          <p:nvPr/>
        </p:nvSpPr>
        <p:spPr>
          <a:xfrm>
            <a:off x="507960" y="6800760"/>
            <a:ext cx="10282320" cy="77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Verdana"/>
                <a:ea typeface="Verdana"/>
              </a:rPr>
              <a:t>PAVIMENTO CON ALTO DESGASTE Y FALTA DE  SELLO SUPERFICIAL-POLITICAS DE REHABILITACION y/o  RECAPADO ASFALTIC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FF74F71-3A1D-42AF-BCD7-B93417EF332F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9" name="Picture 3" descr="15"/>
          <p:cNvPicPr/>
          <p:nvPr/>
        </p:nvPicPr>
        <p:blipFill>
          <a:blip r:embed="rId1"/>
          <a:stretch/>
        </p:blipFill>
        <p:spPr>
          <a:xfrm>
            <a:off x="304920" y="1341360"/>
            <a:ext cx="5443560" cy="659628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4" descr="16"/>
          <p:cNvPicPr/>
          <p:nvPr/>
        </p:nvPicPr>
        <p:blipFill>
          <a:blip r:embed="rId2"/>
          <a:stretch/>
        </p:blipFill>
        <p:spPr>
          <a:xfrm>
            <a:off x="6294600" y="1341360"/>
            <a:ext cx="5646600" cy="6596280"/>
          </a:xfrm>
          <a:prstGeom prst="rect">
            <a:avLst/>
          </a:prstGeom>
          <a:ln w="0">
            <a:noFill/>
          </a:ln>
        </p:spPr>
      </p:pic>
      <p:sp>
        <p:nvSpPr>
          <p:cNvPr id="1591" name="Text Box 6"/>
          <p:cNvSpPr/>
          <p:nvPr/>
        </p:nvSpPr>
        <p:spPr>
          <a:xfrm>
            <a:off x="304920" y="507960"/>
            <a:ext cx="608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ASF CON RUGOSIDAD AL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87520" y="588960"/>
            <a:ext cx="1035360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FALLAS EN HCV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593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FC8DB0C-145E-49F4-AEB0-23272D9DAC74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4" name="Picture 3" descr="19"/>
          <p:cNvPicPr/>
          <p:nvPr/>
        </p:nvPicPr>
        <p:blipFill>
          <a:blip r:embed="rId1"/>
          <a:stretch/>
        </p:blipFill>
        <p:spPr>
          <a:xfrm>
            <a:off x="368280" y="1147680"/>
            <a:ext cx="5819760" cy="710100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4" descr="2"/>
          <p:cNvPicPr/>
          <p:nvPr/>
        </p:nvPicPr>
        <p:blipFill>
          <a:blip r:embed="rId2"/>
          <a:stretch/>
        </p:blipFill>
        <p:spPr>
          <a:xfrm>
            <a:off x="6407280" y="1147680"/>
            <a:ext cx="47019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B18A96A-61E2-4257-BE4E-F39ED217B032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7" name="Picture 4" descr="42"/>
          <p:cNvPicPr/>
          <p:nvPr/>
        </p:nvPicPr>
        <p:blipFill>
          <a:blip r:embed="rId1"/>
          <a:stretch/>
        </p:blipFill>
        <p:spPr>
          <a:xfrm>
            <a:off x="304920" y="304920"/>
            <a:ext cx="6594480" cy="386064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" descr="2"/>
          <p:cNvPicPr/>
          <p:nvPr/>
        </p:nvPicPr>
        <p:blipFill>
          <a:blip r:embed="rId2"/>
          <a:stretch/>
        </p:blipFill>
        <p:spPr>
          <a:xfrm>
            <a:off x="4160880" y="4729320"/>
            <a:ext cx="7408800" cy="36525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7" descr="2"/>
          <p:cNvPicPr/>
          <p:nvPr/>
        </p:nvPicPr>
        <p:blipFill>
          <a:blip r:embed="rId3"/>
          <a:stretch/>
        </p:blipFill>
        <p:spPr>
          <a:xfrm>
            <a:off x="304920" y="4729320"/>
            <a:ext cx="3551040" cy="3652560"/>
          </a:xfrm>
          <a:prstGeom prst="rect">
            <a:avLst/>
          </a:prstGeom>
          <a:ln w="0">
            <a:noFill/>
          </a:ln>
        </p:spPr>
      </p:pic>
      <p:sp>
        <p:nvSpPr>
          <p:cNvPr id="1600" name="Text Box 8"/>
          <p:cNvSpPr/>
          <p:nvPr/>
        </p:nvSpPr>
        <p:spPr>
          <a:xfrm>
            <a:off x="6899400" y="244440"/>
            <a:ext cx="52797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REEMPLAZO DE </a:t>
            </a:r>
            <a:r>
              <a:rPr b="1" lang="es-CL" sz="2400" spc="-1" strike="noStrike">
                <a:solidFill>
                  <a:srgbClr val="006cb7"/>
                </a:solidFill>
                <a:latin typeface="Verdana"/>
              </a:rPr>
              <a:t>LOSAS</a:t>
            </a: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 FRACTURAD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4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021C8D12-CD52-45C8-90DE-F5F04CBBCE91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Rectangle 3"/>
          <p:cNvSpPr/>
          <p:nvPr/>
        </p:nvSpPr>
        <p:spPr>
          <a:xfrm>
            <a:off x="122400" y="619200"/>
            <a:ext cx="121791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ESTRUCTURA INFORME</a:t>
            </a:r>
            <a:r>
              <a:rPr b="1" lang="es-CL" sz="2400" spc="-1" strike="noStrike">
                <a:solidFill>
                  <a:srgbClr val="006cb7"/>
                </a:solidFill>
                <a:latin typeface="Verdana"/>
              </a:rPr>
              <a:t>: PROGRAMA DE MANTENIMIENTO VIAL URBANO</a:t>
            </a:r>
            <a:r>
              <a:rPr b="1" lang="en-US" sz="2400" spc="-1" strike="noStrike">
                <a:solidFill>
                  <a:srgbClr val="006cb7"/>
                </a:solidFill>
                <a:latin typeface="Verdana"/>
              </a:rPr>
              <a:t>(MANVU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3" name="Rectangle 4"/>
          <p:cNvSpPr/>
          <p:nvPr/>
        </p:nvSpPr>
        <p:spPr>
          <a:xfrm>
            <a:off x="585720" y="1522440"/>
            <a:ext cx="10611000" cy="59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1. – INTRODUCCION (Unidad de Análisis-Red propuesta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 - RECOPILACION ANTECEDENTES DE TERRE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1. - CATASTRO PRELIMINAR, DEFINICION  DE TRAMOS Y SUBTRAM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2. - MEDICIONES DE TRANSI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3. - MEDICIONES DE FACTORES GEOMETR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4. - AUSCULTACION DEL DETERIO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3. - PROCESAMIENTO DE LA INFORMAC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4. - EVALUACION DEL MANTENIMIENTO Y COSTOS ASOCIADOS (Tecnología)    (Matriz-Softwa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 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5. - RESULTADOS Y CONCLUSIONES – CRITERIOS DE PRIORIZACION DE LA RED   EVALUADA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- TMDA PESA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-  MONTO DE INVERS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-  OTR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1035360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3600" spc="-1" strike="noStrike">
                <a:solidFill>
                  <a:srgbClr val="006cb7"/>
                </a:solidFill>
                <a:latin typeface="Verdana"/>
              </a:rPr>
              <a:t>METODOLOGIA</a:t>
            </a:r>
            <a:endParaRPr b="0" lang="en-US" sz="36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566280" y="1420920"/>
            <a:ext cx="10650600" cy="74851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t">
            <a:norm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LA METODOLOGÍA UTILIZADA  CORRESPONDE A LA METODOLOGÍA SIMPLIFICADA DE MANTENIMIENTO VIAL URBANO DENOMINADA MANVU SIMP. DESARROLLADA POR EL MINISTERIO DE VIVIENDA Y URBANISMO. (1988/1989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RECOPILACIÓN DE INFORMACIÓN DE TERREN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 DE  TRAMOS Y SUBTRAMOS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MATRIZ DE TERRENO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DATOS GEOMÉTRICOS DE LAS VÍA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ESTADO DE LA CARPETA DE RODADO.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 (AUSCULTACION)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FLUJOS  DE TRÁNSIT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AUSCULTACIÓN DEL DETERIORO:  NIVEL DEL DETERIORO EXISTENTE, SE REALIZA UNA APRECIACIÓN VISUAL DEL COEFICIENTE DE RUGOSIDAD SUPERFICIAL (C1),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DE ACUERDO A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TABLA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Verdana"/>
              </a:rPr>
              <a:t>SIGUIENTE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QUE INDICA LA METODOLOGÍA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---------------------------------------------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</a:t>
            </a:r>
            <a:r>
              <a:rPr b="1" lang="es-CL" sz="1800" spc="-1" strike="noStrike">
                <a:solidFill>
                  <a:srgbClr val="ff0000"/>
                </a:solidFill>
                <a:latin typeface="Verdana"/>
                <a:ea typeface="Verdana"/>
              </a:rPr>
              <a:t>C1    COEFICIENTE DE RUGOSIDAD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---------------------------------------------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1 = PERFECTAMENTE LIS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2 = ALGO RUGOS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3 = MEDIANAMENTE RUGOS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4 = RUGOSIDAD ALT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5 = EXTREMADAMENTE RUGOS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          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  <a:ea typeface="Verdana"/>
              </a:rPr>
              <a:t>---------------------------------------------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6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65C57EE-138D-4A80-83D8-58C59238B225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20160" y="1276200"/>
            <a:ext cx="9123480" cy="7291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t">
            <a:normAutofit/>
          </a:bodyPr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ISPONER DE UN ODOMETRO Y 2 CONTADORES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RE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CORRIDO POR LAS VÍAS A OBJETO DE  PRECISAR  LAS CARACTERÍSTICAS HOMOGÉNEAS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Y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DEFINIR LOS TRAMOS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Y SUB TRAMOS DE LA RED QUE SE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EVALÚA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, SEGUN EL SIGUIENTE CRITERIO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1.-  POR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TIPO PAVIMENT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HORMIGÓN (HCV), ASFALTO (ASF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2.- POR PERFIL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ANCHO DE LA CALZADA, ENTRE LÍNEAS DE  SOLERA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3.- POR ESTADO O NIVEL DE DETERIOR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RUGOSIDAD SUPERFICIAL QUE SE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APRECIA COMO EL DAÑO ESTRUCTURAL OBSERVAD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4.- POR FLUJOS DE TRÁNSITO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FLUJOS VEHICULARES QUE ATRAVIESAN LA SECCIÓN Y SERÁN CONTABILIZADOS, (LOC. COLECTIVA, TRÁNSITO PESADO, VEHÍCULOS LIVIANOS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5. - DATOS  </a:t>
            </a:r>
            <a:r>
              <a:rPr b="1" lang="es-CL" sz="1800" spc="-1" strike="noStrike">
                <a:solidFill>
                  <a:srgbClr val="0070c0"/>
                </a:solidFill>
                <a:latin typeface="Verdana"/>
              </a:rPr>
              <a:t>GEOMETRICOS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: LARGO Y ANCHO DEL TRAMO , LARGO Y ANCHO DE LOSA REPRESENTATIVA DEL TRAMO O SUBTRAM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453960" indent="-453960" algn="just">
              <a:lnSpc>
                <a:spcPct val="90000"/>
              </a:lnSpc>
              <a:buClr>
                <a:srgbClr val="0070c0"/>
              </a:buClr>
              <a:buFont typeface="Arial"/>
              <a:buChar char="•"/>
              <a:tabLst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8" name="5 Marcador de número de diapositiva"/>
          <p:cNvSpPr/>
          <p:nvPr/>
        </p:nvSpPr>
        <p:spPr>
          <a:xfrm>
            <a:off x="8236080" y="8694720"/>
            <a:ext cx="284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3A594ADB-58B5-42AB-87FB-89E17CB07F43}" type="slidenum">
              <a:rPr b="0" lang="es-CL" sz="13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9" name="Picture 5" descr="ODOMETRO ALUMINIO NEDO DE LUXE 32 CM"/>
          <p:cNvPicPr/>
          <p:nvPr/>
        </p:nvPicPr>
        <p:blipFill>
          <a:blip r:embed="rId1"/>
          <a:stretch/>
        </p:blipFill>
        <p:spPr>
          <a:xfrm>
            <a:off x="9483840" y="4791240"/>
            <a:ext cx="2274840" cy="29718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7" descr="s_MLC_v_O_f_29208656_1926"/>
          <p:cNvPicPr/>
          <p:nvPr/>
        </p:nvPicPr>
        <p:blipFill>
          <a:blip r:embed="rId2"/>
          <a:stretch/>
        </p:blipFill>
        <p:spPr>
          <a:xfrm>
            <a:off x="9483840" y="1886040"/>
            <a:ext cx="2136600" cy="2520720"/>
          </a:xfrm>
          <a:prstGeom prst="rect">
            <a:avLst/>
          </a:prstGeom>
          <a:ln w="0">
            <a:noFill/>
          </a:ln>
        </p:spPr>
      </p:pic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03120" y="87480"/>
            <a:ext cx="10353600" cy="1117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1214280"/>
                <a:tab algn="l" pos="2428920"/>
                <a:tab algn="l" pos="3643200"/>
                <a:tab algn="l" pos="4857840"/>
                <a:tab algn="l" pos="6072120"/>
                <a:tab algn="l" pos="7286760"/>
                <a:tab algn="l" pos="8501040"/>
                <a:tab algn="l" pos="9715680"/>
                <a:tab algn="l" pos="10929960"/>
              </a:tabLst>
            </a:pPr>
            <a:r>
              <a:rPr b="1" lang="en-US" sz="3600" spc="-1" strike="noStrike">
                <a:solidFill>
                  <a:srgbClr val="006cb7"/>
                </a:solidFill>
                <a:latin typeface="Verdana"/>
              </a:rPr>
              <a:t>PROCEDIMIENTO RECOMENDADO </a:t>
            </a:r>
            <a:br>
              <a:rPr sz="3600"/>
            </a:br>
            <a:endParaRPr b="0" lang="en-US" sz="3600" spc="-1" strike="noStrike">
              <a:solidFill>
                <a:srgbClr val="006cb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Julio Rencoret Villablanca</cp:lastModifiedBy>
  <cp:lastPrinted>2015-03-06T15:24:47Z</cp:lastPrinted>
  <dcterms:modified xsi:type="dcterms:W3CDTF">2015-03-26T20:24:04Z</dcterms:modified>
  <cp:revision>18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